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303E-B900-4D71-948E-A44E6B46E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A4B3-A486-4C05-85FD-8A1A415D2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A3670-6679-42F6-9C39-059E052A9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8B6A-1B84-4EBC-B79C-66639D035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7A6F-5DFB-4FD8-8595-10B2E62BA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20D2-AF58-48EE-9D65-384260362F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431A-81A4-4B39-BF96-CC68C1AB3D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60B2-0392-45B4-AFFC-8C9A1AD4AE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C690-DAB5-41D9-8123-B48D5BB52D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1A8F6-8807-416A-891A-FF5C44322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80DB-80B2-4A6E-9DC1-8F265AEA33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6C1A-5226-4C89-80EC-313960BD83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9267-31CE-45C0-A158-2181AB3810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265B-9DDC-4154-9D07-773C17431A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3503-B6FC-4219-B6AC-6A6679D85C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535A-36BE-4585-9D04-BC6ABC5E95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E065-FEF7-41CC-A3CA-8C4CE05DA3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DC8D-2B80-420D-AC50-676928282A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B33-087B-4E6C-9804-E346B02F6D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516-AF0D-4F58-A5B6-58BD53634E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88C-4E96-4B98-BE92-B5D08A5D4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D901-9A78-446D-A158-C90CF71B15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040-B13C-42DF-9250-CFC30443D2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49D-0314-4E7C-8181-CEDF0D70A7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F08-8601-42D1-B815-66FE15CAC2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C0C-02BB-4387-9DF6-C5683EA2DD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726-948B-432D-B4C9-20E9CE3C55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B1D-D034-4C0E-81EB-3080C55B74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C51-FF8F-4927-9285-3A23E7FFDC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620-F77D-4A30-86E4-27DC9995AA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FC1-289D-4643-971C-8F4B2FFDA7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CBF0-05DC-4D8E-8F47-C212976B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0894-465F-4303-AEF3-B1083D3B29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B1560-531F-40CD-BEC1-2249F17C834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4BBE2-5436-42C2-986B-34F9B9CCC0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E7F7D-1E6B-43C6-AD5B-BE29EE35BE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498F5-EF66-4B80-8658-3D189DDC90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008CC-B725-48DD-90A6-F84FE92A2E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43A91-8A4A-4578-BCF5-E0277180CE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E3175-6369-41DA-86A7-0D7F144635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783C0-E235-4177-BD2E-D6B788DD71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4D504-7F69-472F-88E3-98904D9692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DBC5E-27CD-4210-863F-6CD8F4496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4436-E33B-4F07-B3B5-983D218740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F4A4D-24BA-411F-9BDE-345E480EAF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F0BC5-8263-4927-90A0-5795BA3534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D846A-B41E-43C6-86D0-5DF7B518420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8103-70DB-449E-ADCC-A656C2869B3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BE99-704E-4C3B-9D17-5ADA4648F37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F591F-52B0-4F50-B29C-06E7F225CDC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28E0B-EFCD-4C8B-BCB0-9DA9C44B8C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55332-9313-440F-A6FF-F6BBDEF103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BED78-833A-4CF0-B0E9-2EC02A0BE1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C997F-80B5-43C0-BD94-BAE12B08F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FD3B-A38E-4701-A47C-2002353E86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08C2-59D5-4582-AED4-3BC4125E5A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F5C6B-9557-41A1-A74C-DBDCF65761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00B38-31DB-4FB9-85CC-A7F063B80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AE0A-1098-4D67-8714-9B8C94DEC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535D-15D7-4E2B-9A49-C469C75FB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06D-8E37-4376-9BFD-2ABD4489EA9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DC3E-21CB-4D9F-BCC3-0D03BA434B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AFCD-94B4-44CE-83CB-CA29AEBF656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A25-D8D5-407B-BD55-B59E730E871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107-D7EA-4F4B-8222-278F1222B3C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990720" y="23619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he last cell and press [Tab]. A blank record is ready for your entry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rag the resizing handle at the lower-right corner of a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e the Resize button           on the Table Tools Design tab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609480" y="1219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one of these methods to add a record to an Excel 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324320" y="3914640"/>
            <a:ext cx="1162080" cy="428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5335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37" name="Oval 8"/>
          <p:cNvSpPr/>
          <p:nvPr/>
        </p:nvSpPr>
        <p:spPr>
          <a:xfrm>
            <a:off x="4951440" y="4075200"/>
            <a:ext cx="409680" cy="214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Rectangle 2" descr=""/>
          <p:cNvPicPr/>
          <p:nvPr/>
        </p:nvPicPr>
        <p:blipFill>
          <a:blip r:embed="rId3"/>
          <a:stretch/>
        </p:blipFill>
        <p:spPr>
          <a:xfrm>
            <a:off x="884160" y="-6480"/>
            <a:ext cx="83203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6"/>
          <p:cNvSpPr/>
          <p:nvPr/>
        </p:nvSpPr>
        <p:spPr>
          <a:xfrm>
            <a:off x="1447920" y="56386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uplicate rows have the same information in one or more columns. You can remove dupl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258920" y="1457280"/>
            <a:ext cx="6894360" cy="402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1" name="Oval 5"/>
          <p:cNvSpPr/>
          <p:nvPr/>
        </p:nvSpPr>
        <p:spPr>
          <a:xfrm>
            <a:off x="1676520" y="2946240"/>
            <a:ext cx="1523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1689120" y="5213520"/>
            <a:ext cx="15238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Rectangle 2" descr=""/>
          <p:cNvPicPr/>
          <p:nvPr/>
        </p:nvPicPr>
        <p:blipFill>
          <a:blip r:embed="rId2"/>
          <a:stretch/>
        </p:blipFill>
        <p:spPr>
          <a:xfrm>
            <a:off x="884160" y="-6480"/>
            <a:ext cx="832032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41640" cy="151128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D675-AA1E-49C6-B46D-20CC1B6936D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0"/>
          <p:cNvSpPr/>
          <p:nvPr/>
        </p:nvSpPr>
        <p:spPr>
          <a:xfrm>
            <a:off x="1295280" y="1219320"/>
            <a:ext cx="701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Records in a table can be sorted in ascending or descending order. The sort commands are available from the filter arrows in the header 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1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6754680" cy="3898800"/>
          </a:xfrm>
          <a:prstGeom prst="rect">
            <a:avLst/>
          </a:prstGeom>
          <a:ln w="0">
            <a:noFill/>
          </a:ln>
        </p:spPr>
      </p:pic>
      <p:sp>
        <p:nvSpPr>
          <p:cNvPr id="350" name="Oval 2"/>
          <p:cNvSpPr/>
          <p:nvPr/>
        </p:nvSpPr>
        <p:spPr>
          <a:xfrm>
            <a:off x="1447920" y="2521080"/>
            <a:ext cx="601560" cy="29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"/>
          <p:cNvSpPr/>
          <p:nvPr/>
        </p:nvSpPr>
        <p:spPr>
          <a:xfrm>
            <a:off x="533520" y="143676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ltiple level sorts are set from the Sort dialog box. You can use up to 64 sorting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646360" y="1752480"/>
            <a:ext cx="6345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240" y="1904760"/>
            <a:ext cx="6705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criter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hides rows that do not match the condition (criterion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allows you to keep a large list but show only those records needed for a particular tas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6"/>
          <p:cNvSpPr/>
          <p:nvPr/>
        </p:nvSpPr>
        <p:spPr>
          <a:xfrm>
            <a:off x="1143000" y="1295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 the Filter arrow to show records for on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224000" y="1905120"/>
            <a:ext cx="7157880" cy="44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6"/>
          <p:cNvSpPr/>
          <p:nvPr/>
        </p:nvSpPr>
        <p:spPr>
          <a:xfrm>
            <a:off x="457200" y="1841400"/>
            <a:ext cx="254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vailable filters depend on the data type. These are date fil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6119640" cy="437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6"/>
          <p:cNvSpPr/>
          <p:nvPr/>
        </p:nvSpPr>
        <p:spPr>
          <a:xfrm>
            <a:off x="1143000" y="5410080"/>
            <a:ext cx="75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ustom filters allow you to choose operators and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46840" cy="90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716040" y="1676520"/>
            <a:ext cx="819936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2EEF-E801-4CAC-B6E6-342EDC68611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AE2C-9EDA-4898-8BE7-8A56A65E62A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6"/>
          <p:cNvSpPr/>
          <p:nvPr/>
        </p:nvSpPr>
        <p:spPr>
          <a:xfrm>
            <a:off x="853920" y="12952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tructured referenc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a defined name that refers to a data range in an Excel table. Structured references are automatically generated when the table is forma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1600200" y="2666880"/>
            <a:ext cx="61722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re is a structured reference for each label in the header 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This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#Total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6"/>
          <p:cNvSpPr/>
          <p:nvPr/>
        </p:nvSpPr>
        <p:spPr>
          <a:xfrm>
            <a:off x="1600200" y="1295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totals are shown in an Excel table, the SUBTOTAL function uses a structured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6324840" cy="404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1600200" y="1219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isplay trigger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see structured references in Formula AutoComplete is a left square bracket [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881840" cy="846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" descr=""/>
          <p:cNvPicPr/>
          <p:nvPr/>
        </p:nvPicPr>
        <p:blipFill>
          <a:blip r:embed="rId2"/>
          <a:stretch/>
        </p:blipFill>
        <p:spPr>
          <a:xfrm>
            <a:off x="1806480" y="2057400"/>
            <a:ext cx="5889600" cy="4251240"/>
          </a:xfrm>
          <a:prstGeom prst="rect">
            <a:avLst/>
          </a:prstGeom>
          <a:ln w="0">
            <a:noFill/>
          </a:ln>
        </p:spPr>
      </p:pic>
      <p:sp>
        <p:nvSpPr>
          <p:cNvPr id="377" name="Oval 2"/>
          <p:cNvSpPr/>
          <p:nvPr/>
        </p:nvSpPr>
        <p:spPr>
          <a:xfrm>
            <a:off x="6032520" y="5499000"/>
            <a:ext cx="2286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9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6F1-69C4-4D0E-83BB-F0D0D1809BF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1752480" y="12193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UNTIFS, in the Statistical function category, counts cells based on more than one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772956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6"/>
          <p:cNvSpPr/>
          <p:nvPr/>
        </p:nvSpPr>
        <p:spPr>
          <a:xfrm>
            <a:off x="1630440" y="1219320"/>
            <a:ext cx="63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MIFS is in the Math &amp; Trig function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t sums fields using multiple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7010280" cy="41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914400" y="13302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TEXT function displays a value as a label. The value can be formatted like a label and is not used in calculations. The results for the function shown here is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May 26, 2012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, but with today’s d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1193760" y="2590920"/>
            <a:ext cx="7188120" cy="348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9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51440" cy="151128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B3BF-A7AF-4B70-886A-03C07D7FECC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957240" y="212760"/>
            <a:ext cx="8167680" cy="8049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1676520" y="121932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Corbel"/>
              </a:rPr>
              <a:t>calculated column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 an Excel table has a formula. Table AutoExpansion extends a formula down the entire column when it is entered in the first 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1384200" y="2362320"/>
            <a:ext cx="67690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5" descr=""/>
          <p:cNvPicPr/>
          <p:nvPr/>
        </p:nvPicPr>
        <p:blipFill>
          <a:blip r:embed="rId1"/>
          <a:stretch/>
        </p:blipFill>
        <p:spPr>
          <a:xfrm>
            <a:off x="1023840" y="-6480"/>
            <a:ext cx="81327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762120" y="1600200"/>
            <a:ext cx="8153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xcel table can be converted to a simple range of cells. The Convert to Range button is in the Tools group on the Table Tools Design t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some commands, such as custom views, that do not work in worksheets with t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4233960" y="318276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444960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9391-98D3-4C24-A8D0-77C41932A72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8CD9-7912-461B-BC06-04F82ECD0DD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905120" y="1752480"/>
            <a:ext cx="6705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rint area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the range of cells to be prin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fault print area is the entir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 range of cells as a print area and save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aved print area range is outlined with a dashed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5918400" cy="443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7" name="TextBox 4"/>
          <p:cNvSpPr/>
          <p:nvPr/>
        </p:nvSpPr>
        <p:spPr>
          <a:xfrm>
            <a:off x="609480" y="1523880"/>
            <a:ext cx="20574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t is possible to select data on the worksheet and use the Settings command in Backstage view to print only that sele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44792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ustom view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a set of print and display setting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view can include column widths, gridline settings, window size and position, and mo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stom views can be named and sav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ne view can be shown at a ti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0" name="Picture 1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able is a list of data with a row of labels as titles, followed by any number of row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able has a single header row. Each column is a field; each row is a recor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an Excel table is selected, the Table Tools Design command tab is avail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Excel table is created from the Format as Table command in the Styles group on the Home tab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styles include light, medium, and dark color schem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style options include a header row, banded rows or columns, a total row, and emphasized first and last colum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table is automatically named, but you can assign a more descriptive na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creates structured references as names for the parts of a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ble AutoExpansion aids in adding rows or columns to an Excel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move Duplicates command searches for and deletes data rows that are duplicates based on the fields that you specif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ort rows in an Excel table by single or multiple colum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rting can be ascending or descend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ilter displays only specified rows from a tabl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3394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lter arrow lists are quick ways to choose which records should be show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alculated column in an Excel table includes a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UNTIFS and SUMIFS are functions that count and sum ranges based on multiple criteria. They are useful in large sets of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TEXT function displays a value (or date) as text. The value is not used in calculations and can be formatted with text attribut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set and save a print area that is different from the entir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int selection is not saved. If you choose more than one selection, each prints on a separate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ustom view is a set of display and print choices for a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name and save custom views with a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685800" y="12063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Excel tab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a list of related information with a header row followed by data rows. It results from an Excel format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257480" y="2209680"/>
            <a:ext cx="71244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84400" y="2437920"/>
            <a:ext cx="750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y field names or descriptive labels in the first row. 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eader row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art field names with a let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repeat field names in the header row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mix data types in a column. Do not enter values and text in the same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 not leave blank rows within the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609480" y="12952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epare data for formatting as an Excel table, follow these guideli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214-Fig08-01.png"/>
          <p:cNvPicPr/>
          <p:nvPr/>
        </p:nvPicPr>
        <p:blipFill>
          <a:blip r:embed="rId2"/>
          <a:stretch/>
        </p:blipFill>
        <p:spPr>
          <a:xfrm>
            <a:off x="2795760" y="1797120"/>
            <a:ext cx="5914800" cy="422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1" name="Text Box 6"/>
          <p:cNvSpPr/>
          <p:nvPr/>
        </p:nvSpPr>
        <p:spPr>
          <a:xfrm>
            <a:off x="4330800" y="609588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column is a tabl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222800" y="17384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5154480" y="17240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>
            <a:off x="6303960" y="1724040"/>
            <a:ext cx="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888080" y="1351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column label is a field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14"/>
          <p:cNvCxnSpPr/>
          <p:nvPr/>
        </p:nvCxnSpPr>
        <p:spPr>
          <a:xfrm flipH="1" flipV="1">
            <a:off x="2716200" y="2638080"/>
            <a:ext cx="76680" cy="5342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17" name="Straight Arrow Connector 16"/>
          <p:cNvCxnSpPr/>
          <p:nvPr/>
        </p:nvCxnSpPr>
        <p:spPr>
          <a:xfrm flipV="1">
            <a:off x="4010400" y="2666520"/>
            <a:ext cx="305640" cy="457920"/>
          </a:xfrm>
          <a:prstGeom prst="straightConnector1">
            <a:avLst/>
          </a:prstGeom>
          <a:ln w="0">
            <a:noFill/>
          </a:ln>
        </p:spPr>
      </p:cxnSp>
      <p:sp>
        <p:nvSpPr>
          <p:cNvPr id="318" name="Text Box 8"/>
          <p:cNvSpPr/>
          <p:nvPr/>
        </p:nvSpPr>
        <p:spPr>
          <a:xfrm>
            <a:off x="746640" y="44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Each row is a re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traight Arrow Connector 21"/>
          <p:cNvCxnSpPr/>
          <p:nvPr/>
        </p:nvCxnSpPr>
        <p:spPr>
          <a:xfrm flipH="1" flipV="1">
            <a:off x="3630240" y="4571640"/>
            <a:ext cx="38160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0" name="Straight Arrow Connector 22"/>
          <p:cNvCxnSpPr/>
          <p:nvPr/>
        </p:nvCxnSpPr>
        <p:spPr>
          <a:xfrm flipH="1" flipV="1">
            <a:off x="3630240" y="4723560"/>
            <a:ext cx="381600" cy="2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21" name="Straight Arrow Connector 2"/>
          <p:cNvCxnSpPr/>
          <p:nvPr/>
        </p:nvCxnSpPr>
        <p:spPr>
          <a:xfrm>
            <a:off x="7238520" y="1676160"/>
            <a:ext cx="108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2" name="Straight Arrow Connector 17"/>
          <p:cNvCxnSpPr/>
          <p:nvPr/>
        </p:nvCxnSpPr>
        <p:spPr>
          <a:xfrm>
            <a:off x="6303600" y="1676160"/>
            <a:ext cx="108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3" name="Left Brace 18"/>
          <p:cNvSpPr/>
          <p:nvPr/>
        </p:nvSpPr>
        <p:spPr>
          <a:xfrm>
            <a:off x="2971800" y="4343400"/>
            <a:ext cx="457200" cy="533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880 h 533520"/>
              <a:gd name="textAreaBottom" fmla="*/ 5216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2"/>
                  <a:pt x="10800" y="1543"/>
                </a:cubicBezTo>
                <a:lnTo>
                  <a:pt x="10800" y="9257"/>
                </a:lnTo>
                <a:cubicBezTo>
                  <a:pt x="10800" y="10029"/>
                  <a:pt x="5400" y="10800"/>
                  <a:pt x="0" y="10800"/>
                </a:cubicBezTo>
                <a:cubicBezTo>
                  <a:pt x="5400" y="10800"/>
                  <a:pt x="10800" y="11572"/>
                  <a:pt x="10800" y="12343"/>
                </a:cubicBezTo>
                <a:lnTo>
                  <a:pt x="10800" y="20057"/>
                </a:lnTo>
                <a:cubicBezTo>
                  <a:pt x="10800" y="208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the cells and click the Format as Table button in the Styles group on the Home command tab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oose a style for the table from the Table Styles Galle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erify the cell range and that the table has head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214-button128.tif"/>
          <p:cNvPicPr/>
          <p:nvPr/>
        </p:nvPicPr>
        <p:blipFill>
          <a:blip r:embed="rId2"/>
          <a:stretch/>
        </p:blipFill>
        <p:spPr>
          <a:xfrm>
            <a:off x="762120" y="1447920"/>
            <a:ext cx="685800" cy="68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27480" cy="198108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8DEB-6A2C-427C-83D8-56E0123E794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345520" cy="11588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1371600" y="36766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context-sensitive command tab opens when an Excel table is selected. You can choose a style, remove duplicates, resize the table, name it, and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685800" y="2228760"/>
            <a:ext cx="82296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9:09Z</dcterms:modified>
  <cp:revision>76</cp:revision>
  <dc:subject/>
  <dc:title>Microsoft office</dc:title>
</cp:coreProperties>
</file>